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1D3258-B574-46C3-9622-7FD6195C20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1F23D9-9ADA-4208-9CD2-EB95179609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E30CD5-4503-4F71-9A58-C86DA576BB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310154-4EB7-4F51-A274-5A71E01537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78426E-7E12-4547-ADC1-629476A947A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41853A-9133-4EFA-ACA1-9AF4992434A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EC119B-5D67-4505-9ACD-80A1F877823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D765E0-7984-458D-BDD9-03F35225E30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6BBB9C-6406-4B6E-9356-844C23AB292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70106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56A225-20D3-4FCA-924A-264A06D8226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AB5E03-C689-4248-9586-7AC3D9170E3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B3C525-1102-47B5-8869-4FCE9C4135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7B115B-0163-446F-8B31-D05C6188412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862B3D-C02B-4C59-AD93-5C10177E222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C7190E-6943-4AE2-AEF9-C9189F97758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00B748-DC6C-43C5-B884-CA5853CCBD9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343873-BDB2-4BAD-9D98-8A7CFB3874E1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EBFBA-98E9-4837-8C8F-0ED555305FE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EE427-6E18-4D38-B20D-A6441355FD5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4EC25-8F63-4558-BF04-82819558F41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30F2F-1203-4796-86AC-73444933CAF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875A2-EC84-4AFC-9D1A-C6CB50B9C22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CEEDB3-CB6E-49BA-8ECE-078FA7B88D2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70106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37655-8222-4A8F-B920-9FE7F1CC15D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D2D9C-3924-4E90-A51F-FA3245B5474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9BAFC-75B0-4A93-8D4C-08EDC72D1ED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AE8EB-7DD4-4F29-A8E7-FD7E1DDBA0F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E1C70-5AEA-4FB3-A915-A38FAD42B0B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4D0AE-E2E0-4F6F-92E8-88308EDC39B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712F6-7777-4827-8A0E-3DE800E65B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16171E-AD87-4914-BB0F-C1E2275B5C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2F952E-CB6B-42AF-94C7-AC2B0600DF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70106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E53731-F4F0-4DB5-BDC0-0009C677C7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D00DA5-8D26-4378-99FE-D01D1F52F9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577D04-0CC5-4FE3-9B83-F1C93BCA63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5530F4-B390-4087-B568-F9BBEC469F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" Target="slide2.xml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Click to edit the title text forma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1"/>
          </p:nvPr>
        </p:nvSpPr>
        <p:spPr>
          <a:xfrm>
            <a:off x="3603600" y="63817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E0508-16F7-4C5B-8B71-E67A64043880}" type="slidenum">
              <a:rPr b="0" lang="en-US" sz="1000" spc="-1" strike="noStrike">
                <a:solidFill>
                  <a:srgbClr val="000066"/>
                </a:solidFill>
                <a:latin typeface="Minion"/>
                <a:ea typeface="文鼎中黑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>
            <a:hlinkClick r:id="rId3" action="ppaction://hlinksldjump"/>
          </p:cNvPr>
          <p:cNvSpPr/>
          <p:nvPr/>
        </p:nvSpPr>
        <p:spPr>
          <a:xfrm>
            <a:off x="8101080" y="5915160"/>
            <a:ext cx="609480" cy="322200"/>
          </a:xfrm>
          <a:custGeom>
            <a:avLst/>
            <a:gdLst>
              <a:gd name="textAreaLeft" fmla="*/ 20880 w 609480"/>
              <a:gd name="textAreaRight" fmla="*/ 588600 w 609480"/>
              <a:gd name="textAreaTop" fmla="*/ 20880 h 322200"/>
              <a:gd name="textAreaBottom" fmla="*/ 301320 h 322200"/>
            </a:gdLst>
            <a:ahLst/>
            <a:rect l="textAreaLeft" t="textAreaTop" r="textAreaRight" b="textAreaBottom"/>
            <a:pathLst>
              <a:path w="40838" h="21600">
                <a:moveTo>
                  <a:pt x="0" y="0"/>
                </a:moveTo>
                <a:lnTo>
                  <a:pt x="40838" y="0"/>
                </a:lnTo>
                <a:lnTo>
                  <a:pt x="40838" y="21600"/>
                </a:lnTo>
                <a:lnTo>
                  <a:pt x="0" y="21600"/>
                </a:lnTo>
                <a:close/>
              </a:path>
              <a:path fill="lightenLess" w="40838" h="21600">
                <a:moveTo>
                  <a:pt x="0" y="0"/>
                </a:moveTo>
                <a:lnTo>
                  <a:pt x="40838" y="0"/>
                </a:lnTo>
                <a:lnTo>
                  <a:pt x="39438" y="1400"/>
                </a:lnTo>
                <a:lnTo>
                  <a:pt x="1400" y="1400"/>
                </a:lnTo>
                <a:close/>
              </a:path>
              <a:path fill="darken" w="40838" h="21600">
                <a:moveTo>
                  <a:pt x="40838" y="0"/>
                </a:moveTo>
                <a:lnTo>
                  <a:pt x="40838" y="21600"/>
                </a:lnTo>
                <a:lnTo>
                  <a:pt x="39438" y="20200"/>
                </a:lnTo>
                <a:lnTo>
                  <a:pt x="39438" y="1400"/>
                </a:lnTo>
                <a:close/>
              </a:path>
              <a:path fill="darkenLess" w="40838" h="21600">
                <a:moveTo>
                  <a:pt x="408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438" y="20200"/>
                </a:lnTo>
                <a:close/>
              </a:path>
              <a:path fill="lighten" w="408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838" h="21600">
                <a:moveTo>
                  <a:pt x="13412" y="7493"/>
                </a:moveTo>
                <a:lnTo>
                  <a:pt x="16920" y="7493"/>
                </a:lnTo>
                <a:lnTo>
                  <a:pt x="16920" y="12828"/>
                </a:lnTo>
                <a:cubicBezTo>
                  <a:pt x="16920" y="13751"/>
                  <a:pt x="17721" y="14482"/>
                  <a:pt x="18756" y="14482"/>
                </a:cubicBezTo>
                <a:lnTo>
                  <a:pt x="20419" y="14482"/>
                </a:lnTo>
                <a:cubicBezTo>
                  <a:pt x="21454" y="14482"/>
                  <a:pt x="22255" y="13751"/>
                  <a:pt x="22255" y="12828"/>
                </a:cubicBezTo>
                <a:lnTo>
                  <a:pt x="22255" y="7493"/>
                </a:lnTo>
                <a:lnTo>
                  <a:pt x="20419" y="7493"/>
                </a:lnTo>
                <a:lnTo>
                  <a:pt x="23926" y="3985"/>
                </a:lnTo>
                <a:lnTo>
                  <a:pt x="27599" y="7493"/>
                </a:lnTo>
                <a:lnTo>
                  <a:pt x="25763" y="7493"/>
                </a:lnTo>
                <a:lnTo>
                  <a:pt x="25763" y="12828"/>
                </a:lnTo>
                <a:cubicBezTo>
                  <a:pt x="25763" y="15596"/>
                  <a:pt x="23187" y="18155"/>
                  <a:pt x="20419" y="18155"/>
                </a:cubicBezTo>
                <a:lnTo>
                  <a:pt x="18756" y="18155"/>
                </a:lnTo>
                <a:cubicBezTo>
                  <a:pt x="15989" y="18155"/>
                  <a:pt x="13412" y="15596"/>
                  <a:pt x="13412" y="12828"/>
                </a:cubicBezTo>
                <a:close/>
              </a:path>
            </a:pathLst>
          </a:custGeom>
          <a:noFill/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371520" y="6362640"/>
            <a:ext cx="5065560" cy="4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Confidential, 2006 </a:t>
            </a:r>
            <a:r>
              <a:rPr b="0" lang="en-US" sz="1000" spc="-1" strike="noStrike">
                <a:solidFill>
                  <a:srgbClr val="3a0e66"/>
                </a:solidFill>
                <a:latin typeface="Symbol"/>
                <a:ea typeface="Symbol"/>
              </a:rPr>
              <a:t></a:t>
            </a: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Corpo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May 2006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lick to edit the outline text forma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00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Second Outline Level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</a:rPr>
              <a:t>Third Outline Level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spcBef>
                <a:spcPts val="499"/>
              </a:spcBef>
              <a:buClr>
                <a:srgbClr val="3a0e66"/>
              </a:buClr>
              <a:buFont typeface="Minio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Fourth Outline Level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4" marL="2057400" indent="-228600">
              <a:spcBef>
                <a:spcPts val="499"/>
              </a:spcBef>
              <a:buClr>
                <a:srgbClr val="3a0e66"/>
              </a:buClr>
              <a:buFont typeface="Minio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Fifth Outline Level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Sixth Outline Level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Seventh Outline Level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sldNum" idx="2"/>
          </p:nvPr>
        </p:nvSpPr>
        <p:spPr>
          <a:xfrm>
            <a:off x="3603600" y="63817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54EF1-6548-45C1-87F1-C6A350504288}" type="slidenum">
              <a:rPr b="0" lang="en-US" sz="1000" spc="-1" strike="noStrike">
                <a:solidFill>
                  <a:srgbClr val="000066"/>
                </a:solidFill>
                <a:latin typeface="Minion"/>
                <a:ea typeface="文鼎中黑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71520" y="6362640"/>
            <a:ext cx="5065560" cy="4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Confidential, 2005 </a:t>
            </a:r>
            <a:r>
              <a:rPr b="0" lang="en-US" sz="1000" spc="-1" strike="noStrike">
                <a:solidFill>
                  <a:srgbClr val="3a0e66"/>
                </a:solidFill>
                <a:latin typeface="Symbol"/>
                <a:ea typeface="Symbol"/>
              </a:rPr>
              <a:t></a:t>
            </a: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Corpo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Mar 06, V.2.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Click to edit the title text forma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lick to edit the outline text forma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con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Thir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our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4" marL="2057400" indent="-228600">
              <a:spcBef>
                <a:spcPts val="799"/>
              </a:spcBef>
              <a:buClr>
                <a:srgbClr val="3a0e66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if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ix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ven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3"/>
          </p:nvPr>
        </p:nvSpPr>
        <p:spPr>
          <a:xfrm>
            <a:off x="3603600" y="63817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29877-27E9-494F-BC1B-371D4BF9F969}" type="slidenum">
              <a:rPr b="0" lang="en-US" sz="1000" spc="-1" strike="noStrike">
                <a:solidFill>
                  <a:srgbClr val="000066"/>
                </a:solidFill>
                <a:latin typeface="Minion"/>
                <a:ea typeface="文鼎中黑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>
            <a:hlinkClick r:id="rId3" action="ppaction://hlinksldjump"/>
          </p:cNvPr>
          <p:cNvSpPr/>
          <p:nvPr/>
        </p:nvSpPr>
        <p:spPr>
          <a:xfrm>
            <a:off x="8101080" y="5915160"/>
            <a:ext cx="609480" cy="322200"/>
          </a:xfrm>
          <a:custGeom>
            <a:avLst/>
            <a:gdLst>
              <a:gd name="textAreaLeft" fmla="*/ 20880 w 609480"/>
              <a:gd name="textAreaRight" fmla="*/ 588600 w 609480"/>
              <a:gd name="textAreaTop" fmla="*/ 20880 h 322200"/>
              <a:gd name="textAreaBottom" fmla="*/ 301320 h 322200"/>
            </a:gdLst>
            <a:ahLst/>
            <a:rect l="textAreaLeft" t="textAreaTop" r="textAreaRight" b="textAreaBottom"/>
            <a:pathLst>
              <a:path w="40838" h="21600">
                <a:moveTo>
                  <a:pt x="0" y="0"/>
                </a:moveTo>
                <a:lnTo>
                  <a:pt x="40838" y="0"/>
                </a:lnTo>
                <a:lnTo>
                  <a:pt x="40838" y="21600"/>
                </a:lnTo>
                <a:lnTo>
                  <a:pt x="0" y="21600"/>
                </a:lnTo>
                <a:close/>
              </a:path>
              <a:path fill="lightenLess" w="40838" h="21600">
                <a:moveTo>
                  <a:pt x="0" y="0"/>
                </a:moveTo>
                <a:lnTo>
                  <a:pt x="40838" y="0"/>
                </a:lnTo>
                <a:lnTo>
                  <a:pt x="39438" y="1400"/>
                </a:lnTo>
                <a:lnTo>
                  <a:pt x="1400" y="1400"/>
                </a:lnTo>
                <a:close/>
              </a:path>
              <a:path fill="darken" w="40838" h="21600">
                <a:moveTo>
                  <a:pt x="40838" y="0"/>
                </a:moveTo>
                <a:lnTo>
                  <a:pt x="40838" y="21600"/>
                </a:lnTo>
                <a:lnTo>
                  <a:pt x="39438" y="20200"/>
                </a:lnTo>
                <a:lnTo>
                  <a:pt x="39438" y="1400"/>
                </a:lnTo>
                <a:close/>
              </a:path>
              <a:path fill="darkenLess" w="40838" h="21600">
                <a:moveTo>
                  <a:pt x="408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438" y="20200"/>
                </a:lnTo>
                <a:close/>
              </a:path>
              <a:path fill="lighten" w="408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838" h="21600">
                <a:moveTo>
                  <a:pt x="13412" y="7493"/>
                </a:moveTo>
                <a:lnTo>
                  <a:pt x="16920" y="7493"/>
                </a:lnTo>
                <a:lnTo>
                  <a:pt x="16920" y="12828"/>
                </a:lnTo>
                <a:cubicBezTo>
                  <a:pt x="16920" y="13751"/>
                  <a:pt x="17721" y="14482"/>
                  <a:pt x="18756" y="14482"/>
                </a:cubicBezTo>
                <a:lnTo>
                  <a:pt x="20419" y="14482"/>
                </a:lnTo>
                <a:cubicBezTo>
                  <a:pt x="21454" y="14482"/>
                  <a:pt x="22255" y="13751"/>
                  <a:pt x="22255" y="12828"/>
                </a:cubicBezTo>
                <a:lnTo>
                  <a:pt x="22255" y="7493"/>
                </a:lnTo>
                <a:lnTo>
                  <a:pt x="20419" y="7493"/>
                </a:lnTo>
                <a:lnTo>
                  <a:pt x="23926" y="3985"/>
                </a:lnTo>
                <a:lnTo>
                  <a:pt x="27599" y="7493"/>
                </a:lnTo>
                <a:lnTo>
                  <a:pt x="25763" y="7493"/>
                </a:lnTo>
                <a:lnTo>
                  <a:pt x="25763" y="12828"/>
                </a:lnTo>
                <a:cubicBezTo>
                  <a:pt x="25763" y="15596"/>
                  <a:pt x="23187" y="18155"/>
                  <a:pt x="20419" y="18155"/>
                </a:cubicBezTo>
                <a:lnTo>
                  <a:pt x="18756" y="18155"/>
                </a:lnTo>
                <a:cubicBezTo>
                  <a:pt x="15989" y="18155"/>
                  <a:pt x="13412" y="15596"/>
                  <a:pt x="13412" y="12828"/>
                </a:cubicBezTo>
                <a:close/>
              </a:path>
            </a:pathLst>
          </a:custGeom>
          <a:noFill/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71520" y="6362640"/>
            <a:ext cx="5065560" cy="4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Confidential, 2005 </a:t>
            </a:r>
            <a:r>
              <a:rPr b="0" lang="en-US" sz="1000" spc="-1" strike="noStrike">
                <a:solidFill>
                  <a:srgbClr val="3a0e66"/>
                </a:solidFill>
                <a:latin typeface="Symbol"/>
                <a:ea typeface="Symbol"/>
              </a:rPr>
              <a:t></a:t>
            </a: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Corpo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Mar 06, V.2.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01600" y="15192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a0e66"/>
                </a:solidFill>
                <a:latin typeface="Minion"/>
              </a:rPr>
              <a:t>Value Added Enhancements</a:t>
            </a:r>
            <a:br>
              <a:rPr sz="2000"/>
            </a:br>
            <a:r>
              <a:rPr b="1" lang="en-US" sz="2000" spc="-1" strike="noStrike">
                <a:solidFill>
                  <a:srgbClr val="3a0e66"/>
                </a:solidFill>
                <a:latin typeface="Minion"/>
              </a:rPr>
              <a:t>Organizational Overview</a:t>
            </a:r>
            <a:endParaRPr b="1" lang="en-US" sz="20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4" name=""/>
          <p:cNvSpPr/>
          <p:nvPr/>
        </p:nvSpPr>
        <p:spPr>
          <a:xfrm>
            <a:off x="-2622600" y="766800"/>
            <a:ext cx="0" cy="3682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132000" y="692280"/>
            <a:ext cx="2519640" cy="792000"/>
          </a:xfrm>
          <a:prstGeom prst="rect">
            <a:avLst/>
          </a:prstGeom>
          <a:solidFill>
            <a:srgbClr val="d1c1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2b5d"/>
                </a:solidFill>
                <a:latin typeface="Arial"/>
                <a:ea typeface="新細明體"/>
              </a:rPr>
              <a:t>BMG PH RD VA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2b5d"/>
                </a:solidFill>
                <a:latin typeface="Arial"/>
                <a:ea typeface="新細明體"/>
              </a:rPr>
              <a:t>Value Added Enhan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b5d"/>
                </a:solidFill>
                <a:latin typeface="Arial"/>
                <a:ea typeface="新細明體"/>
              </a:rPr>
              <a:t>Juergen Riesmeyer         Menzie Liang (dep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619280" y="3071880"/>
            <a:ext cx="1258920" cy="503280"/>
          </a:xfrm>
          <a:prstGeom prst="rect">
            <a:avLst/>
          </a:prstGeom>
          <a:solidFill>
            <a:srgbClr val="e9e1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RD VAE 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Electronic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Martina Schob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84720" y="3068640"/>
            <a:ext cx="1258560" cy="503280"/>
          </a:xfrm>
          <a:prstGeom prst="rect">
            <a:avLst/>
          </a:prstGeom>
          <a:solidFill>
            <a:srgbClr val="e9e1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RD VAE  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 </a:t>
            </a: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Mech. Eng./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Doc. &amp; Layout</a:t>
            </a:r>
            <a:r>
              <a:rPr b="0" lang="en-US" sz="800" spc="-1" strike="noStrike">
                <a:solidFill>
                  <a:srgbClr val="000000"/>
                </a:solidFill>
                <a:latin typeface="Minio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Reinhold Hei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24360" y="3068640"/>
            <a:ext cx="1258920" cy="503280"/>
          </a:xfrm>
          <a:prstGeom prst="rect">
            <a:avLst/>
          </a:prstGeom>
          <a:solidFill>
            <a:srgbClr val="e9e1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RD VAE 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EMC/I&amp;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Ulrich Betti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2205000"/>
            <a:ext cx="1441440" cy="503280"/>
          </a:xfrm>
          <a:prstGeom prst="rect">
            <a:avLst/>
          </a:prstGeom>
          <a:solidFill>
            <a:srgbClr val="e5f5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VAE PCM 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Platform Compatibility Manageme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Jens Knapmey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979640" y="1558800"/>
            <a:ext cx="1441440" cy="503280"/>
          </a:xfrm>
          <a:prstGeom prst="rect">
            <a:avLst/>
          </a:prstGeom>
          <a:solidFill>
            <a:srgbClr val="e5f5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VAE PCM 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Platform Compatibility Manageme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Thorsten Lan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437080" y="1555920"/>
            <a:ext cx="1441440" cy="502920"/>
          </a:xfrm>
          <a:prstGeom prst="rect">
            <a:avLst/>
          </a:prstGeom>
          <a:solidFill>
            <a:srgbClr val="e5f5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VAE P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Process, Planning, Too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Ulrich Betti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437080" y="2203560"/>
            <a:ext cx="1441440" cy="503280"/>
          </a:xfrm>
          <a:prstGeom prst="rect">
            <a:avLst/>
          </a:prstGeom>
          <a:solidFill>
            <a:srgbClr val="e5f5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VAE 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Technology &amp; Strateg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N. 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427640" y="1484280"/>
            <a:ext cx="0" cy="14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4429080" y="184320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429080" y="24908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3565440" y="18460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565440" y="22068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3420720" y="249408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420720" y="18464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403280" y="177336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258920" y="601992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258920" y="544212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258920" y="486576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258920" y="42894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258920" y="37130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224000" y="1770120"/>
            <a:ext cx="179280" cy="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224000" y="2347920"/>
            <a:ext cx="17928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87280" y="29224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79280" y="1484280"/>
            <a:ext cx="1150920" cy="503280"/>
          </a:xfrm>
          <a:prstGeom prst="rect">
            <a:avLst/>
          </a:prstGeom>
          <a:solidFill>
            <a:srgbClr val="e5f5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PM 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Project Manager 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Nico Da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79280" y="2060640"/>
            <a:ext cx="1152720" cy="468360"/>
          </a:xfrm>
          <a:prstGeom prst="rect">
            <a:avLst/>
          </a:prstGeom>
          <a:solidFill>
            <a:srgbClr val="e5f5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Minion"/>
              </a:rPr>
              <a:t>PM 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Project Manager 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Dilek Alti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79280" y="2633760"/>
            <a:ext cx="1150920" cy="503280"/>
          </a:xfrm>
          <a:prstGeom prst="rect">
            <a:avLst/>
          </a:prstGeom>
          <a:solidFill>
            <a:srgbClr val="e5f5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Minion"/>
              </a:rPr>
              <a:t>PM 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Project Manager 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Fredrik Herman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738920" y="3070080"/>
            <a:ext cx="1224000" cy="503280"/>
          </a:xfrm>
          <a:prstGeom prst="rect">
            <a:avLst/>
          </a:prstGeom>
          <a:solidFill>
            <a:srgbClr val="e9e1ff"/>
          </a:solidFill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RDQ VA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Menzie Lia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79280" y="3427560"/>
            <a:ext cx="1152720" cy="502920"/>
          </a:xfrm>
          <a:prstGeom prst="rect">
            <a:avLst/>
          </a:prstGeom>
          <a:solidFill>
            <a:srgbClr val="e5f5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PM A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Project Manager A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Hans-Klaus Nussbaech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79280" y="4005360"/>
            <a:ext cx="1152720" cy="503280"/>
          </a:xfrm>
          <a:prstGeom prst="rect">
            <a:avLst/>
          </a:prstGeom>
          <a:solidFill>
            <a:srgbClr val="e5f5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PM A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Project Manager A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Andreas Grielhues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79280" y="5154480"/>
            <a:ext cx="1152720" cy="503280"/>
          </a:xfrm>
          <a:prstGeom prst="rect">
            <a:avLst/>
          </a:prstGeom>
          <a:solidFill>
            <a:srgbClr val="e5f5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PM A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Project Manager A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Ludwig Kundl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79280" y="5734080"/>
            <a:ext cx="1152720" cy="503280"/>
          </a:xfrm>
          <a:prstGeom prst="rect">
            <a:avLst/>
          </a:prstGeom>
          <a:solidFill>
            <a:srgbClr val="e5f5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PM A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Project Manager A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Frank Templi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9280" y="4579920"/>
            <a:ext cx="1152720" cy="503280"/>
          </a:xfrm>
          <a:prstGeom prst="rect">
            <a:avLst/>
          </a:prstGeom>
          <a:solidFill>
            <a:srgbClr val="e5f5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PM A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Project Manager A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Steffen Pietzsc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3563640" y="213372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268360" y="292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994200" y="292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373800" y="292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443640" y="292428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8315280" y="292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1404720" y="2924280"/>
            <a:ext cx="511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3A3553-D978-4EE2-AEEF-935173F1A3F0}" type="slidenum">
              <a:t>1</a:t>
            </a:fld>
          </a:p>
        </p:txBody>
      </p:sp>
    </p:spTree>
  </p:cSld>
  <p:transition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01600" y="15192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a0e66"/>
                </a:solidFill>
                <a:latin typeface="Minion"/>
              </a:rPr>
              <a:t>Value Added Enhancements</a:t>
            </a:r>
            <a:br>
              <a:rPr sz="2000"/>
            </a:br>
            <a:r>
              <a:rPr b="1" lang="en-US" sz="2000" spc="-1" strike="noStrike">
                <a:solidFill>
                  <a:srgbClr val="3a0e66"/>
                </a:solidFill>
                <a:latin typeface="Minion"/>
              </a:rPr>
              <a:t>Organization</a:t>
            </a:r>
            <a:endParaRPr b="1" lang="en-US" sz="20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66" name=""/>
          <p:cNvSpPr/>
          <p:nvPr/>
        </p:nvSpPr>
        <p:spPr>
          <a:xfrm>
            <a:off x="-2622600" y="766800"/>
            <a:ext cx="0" cy="3682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132000" y="692280"/>
            <a:ext cx="2519640" cy="792000"/>
          </a:xfrm>
          <a:prstGeom prst="rect">
            <a:avLst/>
          </a:prstGeom>
          <a:solidFill>
            <a:srgbClr val="d1c1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2b5d"/>
                </a:solidFill>
                <a:latin typeface="Arial"/>
                <a:ea typeface="新細明體"/>
              </a:rPr>
              <a:t>BMG PH RD VA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2b5d"/>
                </a:solidFill>
                <a:latin typeface="Arial"/>
                <a:ea typeface="新細明體"/>
              </a:rPr>
              <a:t>Value Added Enhan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b5d"/>
                </a:solidFill>
                <a:latin typeface="Arial"/>
                <a:ea typeface="新細明體"/>
              </a:rPr>
              <a:t>Juergen Riesmeyer         Menzie Liang (dep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619280" y="3071880"/>
            <a:ext cx="1258920" cy="503280"/>
          </a:xfrm>
          <a:prstGeom prst="rect">
            <a:avLst/>
          </a:prstGeom>
          <a:solidFill>
            <a:srgbClr val="e9e1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RD VAE 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Electronic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Martina Schob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384720" y="3068640"/>
            <a:ext cx="1258560" cy="503280"/>
          </a:xfrm>
          <a:prstGeom prst="rect">
            <a:avLst/>
          </a:prstGeom>
          <a:solidFill>
            <a:srgbClr val="e9e1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RD VAE  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 </a:t>
            </a: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Mech. Eng./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Doc. &amp; Layout</a:t>
            </a:r>
            <a:r>
              <a:rPr b="0" lang="en-US" sz="800" spc="-1" strike="noStrike">
                <a:solidFill>
                  <a:srgbClr val="000000"/>
                </a:solidFill>
                <a:latin typeface="Minio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Reinhold Hei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724360" y="3068640"/>
            <a:ext cx="1258920" cy="503280"/>
          </a:xfrm>
          <a:prstGeom prst="rect">
            <a:avLst/>
          </a:prstGeom>
          <a:solidFill>
            <a:srgbClr val="e9e1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RD VAE 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EMC/I&amp;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Ulrich Betti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981080" y="2205000"/>
            <a:ext cx="1441440" cy="503280"/>
          </a:xfrm>
          <a:prstGeom prst="rect">
            <a:avLst/>
          </a:prstGeom>
          <a:solidFill>
            <a:srgbClr val="e5f5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VAE PCM 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Platform Compatibility Manageme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Jens Knapmey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979640" y="1558800"/>
            <a:ext cx="1441440" cy="503280"/>
          </a:xfrm>
          <a:prstGeom prst="rect">
            <a:avLst/>
          </a:prstGeom>
          <a:solidFill>
            <a:srgbClr val="e5f5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VAE PCM 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Platform Compatibility Manageme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Thorsten Lan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437080" y="1555920"/>
            <a:ext cx="1441440" cy="502920"/>
          </a:xfrm>
          <a:prstGeom prst="rect">
            <a:avLst/>
          </a:prstGeom>
          <a:solidFill>
            <a:srgbClr val="e5f5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VAE P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Process, Planning, Too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Ulrich Betti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437080" y="2203560"/>
            <a:ext cx="1441440" cy="503280"/>
          </a:xfrm>
          <a:prstGeom prst="rect">
            <a:avLst/>
          </a:prstGeom>
          <a:solidFill>
            <a:srgbClr val="e5f5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VAE 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Technology &amp; Strateg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N. 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427640" y="1484280"/>
            <a:ext cx="0" cy="14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4429080" y="184320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4429080" y="24908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3565440" y="18460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565440" y="22068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3420720" y="249408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3420720" y="18464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403280" y="177336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258920" y="601992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258920" y="544212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258920" y="486576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258920" y="42894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258920" y="37130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224000" y="1770120"/>
            <a:ext cx="179280" cy="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224000" y="2347920"/>
            <a:ext cx="17928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187280" y="29224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9280" y="1484280"/>
            <a:ext cx="1150920" cy="503280"/>
          </a:xfrm>
          <a:prstGeom prst="rect">
            <a:avLst/>
          </a:prstGeom>
          <a:solidFill>
            <a:srgbClr val="e5f5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PM 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Project Manager 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Nico Da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79280" y="2060640"/>
            <a:ext cx="1152720" cy="468360"/>
          </a:xfrm>
          <a:prstGeom prst="rect">
            <a:avLst/>
          </a:prstGeom>
          <a:solidFill>
            <a:srgbClr val="e5f5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Minion"/>
              </a:rPr>
              <a:t>PM 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Project Manager 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Dilek Alti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79280" y="2633760"/>
            <a:ext cx="1150920" cy="503280"/>
          </a:xfrm>
          <a:prstGeom prst="rect">
            <a:avLst/>
          </a:prstGeom>
          <a:solidFill>
            <a:srgbClr val="e5f5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Minion"/>
              </a:rPr>
              <a:t>PM 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Project Manager 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Fredrik Herman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38920" y="3070080"/>
            <a:ext cx="1224000" cy="503280"/>
          </a:xfrm>
          <a:prstGeom prst="rect">
            <a:avLst/>
          </a:prstGeom>
          <a:solidFill>
            <a:srgbClr val="e9e1ff"/>
          </a:solidFill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RDQ VA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Menzie Lia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619280" y="3679920"/>
            <a:ext cx="1008000" cy="396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HW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Thorsten Schoell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619280" y="4111560"/>
            <a:ext cx="1008000" cy="397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HW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800" spc="-1" strike="noStrike">
                <a:solidFill>
                  <a:srgbClr val="002b5d"/>
                </a:solidFill>
                <a:latin typeface="Arial"/>
                <a:ea typeface="新細明體"/>
              </a:rPr>
              <a:t>Zouheir Hamza*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619280" y="4545000"/>
            <a:ext cx="1008000" cy="396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HW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800" spc="-1" strike="noStrike">
                <a:solidFill>
                  <a:srgbClr val="002b5d"/>
                </a:solidFill>
                <a:latin typeface="Arial"/>
                <a:ea typeface="新細明體"/>
              </a:rPr>
              <a:t>Robin Foster*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619280" y="4976640"/>
            <a:ext cx="1008000" cy="397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HW/Acoust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Markus Bentz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619280" y="5408640"/>
            <a:ext cx="1008000" cy="396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SW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Pawel Grebenki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7667640" y="3679920"/>
            <a:ext cx="1152360" cy="39672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Process Manageme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Suppor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800" spc="-1" strike="noStrike">
                <a:solidFill>
                  <a:srgbClr val="002b5d"/>
                </a:solidFill>
                <a:latin typeface="Arial"/>
                <a:ea typeface="新細明體"/>
              </a:rPr>
              <a:t>Christian Hernau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667640" y="4113360"/>
            <a:ext cx="1152360" cy="39672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M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Ben Li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667640" y="4545000"/>
            <a:ext cx="1152360" cy="39672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E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800" spc="-1" strike="noStrike">
                <a:solidFill>
                  <a:srgbClr val="002b5d"/>
                </a:solidFill>
                <a:latin typeface="Arial"/>
                <a:ea typeface="新細明體"/>
              </a:rPr>
              <a:t>Jay Li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914560" y="3679920"/>
            <a:ext cx="1008000" cy="396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M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Gerhard Bleum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914560" y="4111560"/>
            <a:ext cx="1008000" cy="397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M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Reinhard Muell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914560" y="4545000"/>
            <a:ext cx="1008000" cy="396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M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Bernd Splei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914560" y="5408640"/>
            <a:ext cx="1008000" cy="396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M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Klaus Koelln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914560" y="4976640"/>
            <a:ext cx="1008000" cy="397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M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Rupert Stoegmuell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67280" y="3678120"/>
            <a:ext cx="1008000" cy="397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Do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Joerg Lubig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067280" y="4110120"/>
            <a:ext cx="1008000" cy="396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Doc/Layou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Bernhard Schilz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067280" y="4543560"/>
            <a:ext cx="1008000" cy="396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Packag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Rolf Neuhau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067280" y="4975200"/>
            <a:ext cx="1008000" cy="397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Env.-Testing Support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Laszlo Koehl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292720" y="3681360"/>
            <a:ext cx="1008000" cy="397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I&amp;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Nico Kemp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292720" y="4113360"/>
            <a:ext cx="1008000" cy="396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I&amp;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Klaus Viktor Flitsc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292720" y="4546440"/>
            <a:ext cx="1008000" cy="397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I&amp;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Diana Rieg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92720" y="5410080"/>
            <a:ext cx="1008000" cy="397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I&amp;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Michael Stadl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292720" y="4978440"/>
            <a:ext cx="1008000" cy="396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I&amp;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Klaus Schmi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445080" y="3679920"/>
            <a:ext cx="1008360" cy="396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EM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Patrik Jako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445080" y="4111560"/>
            <a:ext cx="1008360" cy="397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EM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Norbert Puetz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292720" y="5840280"/>
            <a:ext cx="1008000" cy="397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I&amp;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Bernhard Zwill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79280" y="3427560"/>
            <a:ext cx="1152720" cy="502920"/>
          </a:xfrm>
          <a:prstGeom prst="rect">
            <a:avLst/>
          </a:prstGeom>
          <a:solidFill>
            <a:srgbClr val="e5f5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PM A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Project Manager A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Hans-Klaus Nussbaech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79280" y="4005360"/>
            <a:ext cx="1152720" cy="503280"/>
          </a:xfrm>
          <a:prstGeom prst="rect">
            <a:avLst/>
          </a:prstGeom>
          <a:solidFill>
            <a:srgbClr val="e5f5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PM A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Project Manager A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Andreas Grielhues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79280" y="5154480"/>
            <a:ext cx="1152720" cy="503280"/>
          </a:xfrm>
          <a:prstGeom prst="rect">
            <a:avLst/>
          </a:prstGeom>
          <a:solidFill>
            <a:srgbClr val="e5f5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PM A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Project Manager A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Ludwig Kundl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79280" y="5734080"/>
            <a:ext cx="1152720" cy="503280"/>
          </a:xfrm>
          <a:prstGeom prst="rect">
            <a:avLst/>
          </a:prstGeom>
          <a:solidFill>
            <a:srgbClr val="e5f5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PM A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Project Manager A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Frank Templi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79280" y="4579920"/>
            <a:ext cx="1152720" cy="503280"/>
          </a:xfrm>
          <a:prstGeom prst="rect">
            <a:avLst/>
          </a:prstGeom>
          <a:solidFill>
            <a:srgbClr val="e5f5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PM A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Project Manager A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Steffen Pietzsc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700360" y="3573360"/>
            <a:ext cx="0" cy="201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2625840" y="5587920"/>
            <a:ext cx="7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626920" y="515772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flipH="1">
            <a:off x="2626920" y="472428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2626920" y="429264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flipH="1">
            <a:off x="2626920" y="386064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547640" y="6165720"/>
            <a:ext cx="1441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* as of  01 June 200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994200" y="3573360"/>
            <a:ext cx="0" cy="201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3922200" y="558972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flipH="1">
            <a:off x="3922200" y="515772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 flipH="1">
            <a:off x="3994200" y="5157720"/>
            <a:ext cx="7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922200" y="472428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3995280" y="472428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3922200" y="429264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H="1">
            <a:off x="3994200" y="4292640"/>
            <a:ext cx="7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 flipH="1">
            <a:off x="3922200" y="386064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3995280" y="386064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372360" y="3573360"/>
            <a:ext cx="0" cy="24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6300360" y="602136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H="1">
            <a:off x="6300360" y="558972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flipH="1">
            <a:off x="6300360" y="515772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6300360" y="472428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>
            <a:off x="6300360" y="429264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>
            <a:off x="6372360" y="4292640"/>
            <a:ext cx="7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H="1">
            <a:off x="6372360" y="3860640"/>
            <a:ext cx="7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6300360" y="386064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8891640" y="3573360"/>
            <a:ext cx="0" cy="165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8819640" y="476100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8819640" y="432900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8819640" y="389736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flipH="1">
            <a:off x="3563640" y="213372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268360" y="292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994200" y="292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373800" y="292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443640" y="292428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8315280" y="292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7667640" y="5013360"/>
            <a:ext cx="1152360" cy="39672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PC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800" spc="-1" strike="noStrike">
                <a:solidFill>
                  <a:srgbClr val="002b5d"/>
                </a:solidFill>
                <a:latin typeface="Arial"/>
                <a:ea typeface="新細明體"/>
              </a:rPr>
              <a:t>N.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 flipH="1">
            <a:off x="8818560" y="5229360"/>
            <a:ext cx="71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1404720" y="2924280"/>
            <a:ext cx="511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9680F9-2C2F-4436-AEA4-89CFF6957FE7}" type="slidenum">
              <a:t>2</a:t>
            </a:fld>
          </a:p>
        </p:txBody>
      </p:sp>
    </p:spTree>
  </p:cSld>
  <p:transition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80880" y="43920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VAE 1 </a:t>
            </a:r>
            <a:br>
              <a:rPr sz="2800"/>
            </a:b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Electronics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94920" y="1773360"/>
            <a:ext cx="8497800" cy="32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ion"/>
              </a:rPr>
              <a:t>Responsibility for HW-, SW- and feature related  part of the TTD </a:t>
            </a:r>
            <a:r>
              <a:rPr b="0" lang="en-US" sz="1200" spc="-1" strike="noStrike">
                <a:solidFill>
                  <a:srgbClr val="000000"/>
                </a:solidFill>
                <a:latin typeface="Minion"/>
              </a:rPr>
              <a:t>(technical terms of delivery)</a:t>
            </a:r>
            <a:r>
              <a:rPr b="0" lang="en-US" sz="1800" spc="-1" strike="noStrike">
                <a:solidFill>
                  <a:srgbClr val="000000"/>
                </a:solidFill>
                <a:latin typeface="Minion"/>
              </a:rPr>
              <a:t> for ODM products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inion"/>
              </a:rPr>
              <a:t> 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ion"/>
              </a:rPr>
              <a:t>Controlling and checking electronic status of ODM developments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ion"/>
              </a:rPr>
              <a:t>Supporting the alpha-team on all HW and SW-related issu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inion"/>
              </a:rPr>
              <a:t> 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ion"/>
              </a:rPr>
              <a:t>Responsible for the AC product inhouse developments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3A7387-A561-43D1-842A-2D1D7C5B1A4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80880" y="439200"/>
            <a:ext cx="8439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VAE 2  </a:t>
            </a:r>
            <a:br>
              <a:rPr sz="2800"/>
            </a:b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Mechanical Engineering , Documentation, Layout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9528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Responsible for the mechanical part of the TTD for ODM products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Mechanical concept engineering for new AC products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Supporting the Project Management ED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Controlling and checking the mechanical/tool status of ODM developments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 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Responsibility for all product related SAP documentation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Technical support and development for retail packaging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Responsibility for  AC  CAE-development 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2C5925-D4D1-4D86-A43A-DB7EF8321F8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80880" y="43920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VAE 3</a:t>
            </a:r>
            <a:br>
              <a:rPr sz="2800"/>
            </a:b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Integration &amp; Test, EMC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68360" y="2071440"/>
            <a:ext cx="8229600" cy="31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Responsibility for the HW/SW-Integration Test and the System Test Accessory Device/Mobile Phone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Running the EMC-Test lab;  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EMC debugging for Accessory Devices and for the system AD/Mobile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Supporting and Consulting the ODM-development partner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887F5F-0D20-4565-B563-87E3214D487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380880" y="22176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inion"/>
              </a:rPr>
              <a:t>Project Management AC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395280" y="1052280"/>
            <a:ext cx="82296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Project management for AC-products  (ODM-products and inhouse developments)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Member of the Realization Team AD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Head of the PD-Team AD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72" name=""/>
          <p:cNvSpPr/>
          <p:nvPr/>
        </p:nvSpPr>
        <p:spPr>
          <a:xfrm>
            <a:off x="298440" y="3319560"/>
            <a:ext cx="7010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inion"/>
                <a:ea typeface="文鼎中黑"/>
              </a:rPr>
              <a:t>Project Management 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95280" y="4149720"/>
            <a:ext cx="856944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Project management for Edition -Products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Initiation and supporting mechanical predevelop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Member of Realization Teams  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7026C0-B29E-4AD8-BF63-0DF0DEF7F20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98080" y="40428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inion"/>
              </a:rPr>
              <a:t>VAE PPT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Minion"/>
              </a:rPr>
              <a:t>Process, Planning, Tools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385920" y="1304640"/>
            <a:ext cx="822960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Minion"/>
              </a:rPr>
              <a:t>Responsible for process definition and documentation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Minion"/>
              </a:rPr>
              <a:t>Interface to Business Administration in terms of budget planning and controlling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Minion"/>
              </a:rPr>
              <a:t>Internal support for project planning and monitoring 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Minion"/>
              </a:rPr>
              <a:t>Responsible for planning tools 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76" name=""/>
          <p:cNvSpPr/>
          <p:nvPr/>
        </p:nvSpPr>
        <p:spPr>
          <a:xfrm>
            <a:off x="312840" y="3753000"/>
            <a:ext cx="7010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inion"/>
                <a:ea typeface="文鼎中黑"/>
              </a:rPr>
              <a:t>VAE TS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Minion"/>
                <a:ea typeface="文鼎中黑"/>
              </a:rPr>
              <a:t>Technology and Strate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385920" y="4689360"/>
            <a:ext cx="8229600" cy="16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Minion"/>
                <a:ea typeface="文鼎中黑"/>
              </a:rPr>
              <a:t>R&amp;D VAE member in the Alpha-Tea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Minion"/>
                <a:ea typeface="文鼎中黑"/>
              </a:rPr>
              <a:t>Market scanning for technologies available for product developm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Minion"/>
                <a:ea typeface="文鼎中黑"/>
              </a:rPr>
              <a:t>Initiating technology platforms for AD product families</a:t>
            </a:r>
            <a:r>
              <a:rPr b="1" lang="en-US" sz="2000" spc="-1" strike="noStrike">
                <a:solidFill>
                  <a:srgbClr val="800080"/>
                </a:solidFill>
                <a:latin typeface="Minion"/>
                <a:ea typeface="文鼎中黑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D6A86C-BADD-43B9-A24A-BFA987FE4C9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98080" y="40428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inion"/>
              </a:rPr>
              <a:t>VAE PCM;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Minion"/>
              </a:rPr>
              <a:t>Platform Compatibility Management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95280" y="234900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Single Entry Point for all VAE-related technical issues for the mobile phone team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 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Member in all PD-teams of the mobile phon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 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Interface between the VAE-product teams and the phones PD-teams</a:t>
            </a: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 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F17363-C21A-4F23-B198-862CFB5C89C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6T12:58:53Z</dcterms:created>
  <dc:creator>Selma Samrowski</dc:creator>
  <dc:description/>
  <dc:language>en-US</dc:language>
  <cp:lastModifiedBy>Juergen Riesmeyer</cp:lastModifiedBy>
  <dcterms:modified xsi:type="dcterms:W3CDTF">2006-05-15T12:11:03Z</dcterms:modified>
  <cp:revision>330</cp:revision>
  <dc:subject/>
  <dc:title>PHE R&amp;D Organization Charts</dc:title>
</cp:coreProperties>
</file>